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7DE-3F1C-4426-993B-376F2609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738-CD86-4CBE-8309-24077E4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D54-A528-4A94-B71A-F8266A21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01B-D041-46CC-B5FC-ACDD5F06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0BC2-266F-435F-B9E3-7ECE3D73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BDF9-43F9-4547-A63C-A75CEA1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2632-2F4A-4EBA-B55B-91A367E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343-BA02-41A2-BBEA-47CE0C6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F9F9-A434-47C5-8F73-B1D079E2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9C7E-0F29-45BA-AFDF-28CD1D62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A7E-4DDA-41ED-AE53-014927E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584-B303-45E0-BA56-38ED9188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5F20-54DE-4BF4-8D1F-7B6DDEE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D320-8273-4E09-8E12-A5402447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959D-70BE-4930-8835-B43832DA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99E1-F73A-4F49-80C2-6282CF8C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199B-D8DE-4C12-9264-FAA4005B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78B-98A7-45D8-9FC7-36660A27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343-D1F0-4429-9A1E-9D5913C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ACE-79FC-4670-A535-8E061E51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D03-7C38-4638-AF77-3E660C7A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465-0B5C-4366-9A15-1E7CFA3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DF2-7641-4AE4-A725-9AE0415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B03-D2B0-44E5-B48A-F2DB6CF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C16C-ECA0-4677-BE1A-3A8F7B0CD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8D52-1C15-4CE5-896A-A3C94B947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8"/>
          <a:stretch/>
        </p:blipFill>
        <p:spPr>
          <a:xfrm>
            <a:off x="838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9"/>
          <a:stretch/>
        </p:blipFill>
        <p:spPr>
          <a:xfrm>
            <a:off x="236232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0"/>
          <a:stretch/>
        </p:blipFill>
        <p:spPr>
          <a:xfrm>
            <a:off x="5410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1"/>
          <a:stretch/>
        </p:blipFill>
        <p:spPr>
          <a:xfrm>
            <a:off x="693432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2"/>
          <a:stretch/>
        </p:blipFill>
        <p:spPr>
          <a:xfrm>
            <a:off x="3886200" y="914400"/>
            <a:ext cx="1527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the piece show, and why is it significan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182880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civil guard members and the milit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dramatic lighting and unintentional darkness due to varni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t to capture a moment rather than show a typical portra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4680" y="3168720"/>
            <a:ext cx="58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89280" y="316872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ds of Honor, Diego Velazque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89280" y="3168720"/>
            <a:ext cx="60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56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3600" y="31687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45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 Philip IV of Sp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4680" y="316872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89280" y="3168720"/>
            <a:ext cx="588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ictorial Depth, Artist is featured in painting, intermediate values that resemble a pho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2520" y="3168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Mary Magdalen with Cand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216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216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de la T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5040" y="316872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25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2160" y="316872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ight W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3240" y="316872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89280" y="1752480"/>
            <a:ext cx="588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 la Tour always used a visible light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al of movement places a calm in the pai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ientific study of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4680" y="316872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800" y="316872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avagg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02-04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95280" y="3168720"/>
            <a:ext cx="646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specific sacrament is this meant to illustr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143000" y="31687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ucharist, Christ’s body is being laid at the alt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800" y="3168720"/>
            <a:ext cx="33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4680" y="316872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316872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t to “naturalize” a religious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in modern ti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unidealized mod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3240" y="3168720"/>
            <a:ext cx="63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, what part are we looking 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3960" y="3168720"/>
            <a:ext cx="57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Peter’s Basilica, the faç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4320" y="316872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artist/architec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080" y="31687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d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07-15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2880" y="316872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0720" y="316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e Paul 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800" y="316872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brand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4320" y="316872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33520" y="16765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lects the church during the counter-re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d to work with an early central dome plan of 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ll towers were added 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2520" y="31687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4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5-17T16:24:28Z</dcterms:modified>
  <cp:revision>18</cp:revision>
  <dc:subject/>
  <dc:title>Jeopardy</dc:title>
</cp:coreProperties>
</file>